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75A8-F4EB-4C49-81A2-9AB3FFF26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530A-FF0A-40C4-B702-6A03BD5E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1D6A-6823-4332-AD85-D3BDAC544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8683-469C-4D40-95C2-773362E35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F9B7-3955-42B9-AE56-9C7A989E6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467B-6896-4586-A2A8-89018C65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F8EF-6E3E-462E-B24B-B1A38A27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4894-DB01-4C7D-8288-FD9B6A4B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07B8-C4B3-421E-8545-136563AD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1DCB-37A3-47E2-9CD4-B1214158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8BFA-93AC-4DD3-B92E-94B6FAB3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C5EF-5B75-458B-B684-815A0ACF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ACB9-E3CD-40B0-8AD9-5FC8A6AB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BD4C-47EE-4AE4-9AE3-E10A5AE3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30C2-560D-44C8-8D25-4D123285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70A3-6C56-4AA8-8C4C-475D90A95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BF51-9A39-4A34-8F62-D69010E7B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477A3-C151-4438-B04E-AD990C71C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CD26D-CFC1-467D-A943-DCFCEAF3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92956-0216-453A-950F-0205F06F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C6306-18CC-4E7A-947A-8380BA2F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09482-1618-4A39-8A7C-F6781742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E83A-2505-4789-86B5-C720EC7F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BF1B0-15DD-4544-8D72-A52BAA43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7A8EB-55A8-4C54-804E-A8E6113F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C557E-6F4C-4723-8D9E-7218F021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81D30-3F57-4C63-AA1A-AA451F8D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ECDE7-9E30-4157-A6E1-8CF0B3A0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DD8C3-B1E1-4901-A670-3F5E48634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006E1-F29A-4717-9185-AE8AB691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B5A7E-8180-410E-8F3A-704C5700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224FE-3B0B-4134-BD9F-AD14BCB0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42DF1-EC13-4B95-853B-AABE1842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E30E-422D-4027-B5F0-7CD17E4B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B82C9-D3EC-413E-99C0-B06584E5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9FAFE-E7E6-4288-B28E-9BEE019C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14F0F-931B-4621-9BB5-542BCAED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EF75F-E884-4EFA-B6D0-D57C85CC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D3DF2-DBE8-4E39-AAC1-8754CA4E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FAB3A-721F-47BE-8237-EBB3D9FE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D8B16-E200-4AC9-ABED-DFD431A3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BEC0D-FF83-4921-B2AB-EBDA5EDD6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0C39B-1F06-43CE-BA0A-BB884FA1E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1D9D0-C667-43B7-B94A-63730C455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282D-D45F-4537-80BB-D7E80A63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83657-4AAA-4C89-90B6-85DFB0D7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8AB53-A172-48C5-B2CC-61978450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B7D44-842B-4D75-8FE8-0F92C2E1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B8853-3468-4429-881D-525EF921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52074-FC32-4D75-B5AE-09F5CA59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93762-CEF2-469A-8985-002E2452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15B3C-8732-41A5-B744-3F5CC54B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327E9-180A-4FD9-A16D-75EBFE15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647F5-0C65-4557-B529-8746F370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E94C4-078C-4258-9FB4-0D69457D5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6EED-1984-42DC-93E2-A78EA277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0D10C-623B-4C10-A7C4-3CD338602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2F65-724A-425B-B4E6-D0628821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6B0E-2503-4970-9438-F0536328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777E-F3B2-4FED-89C8-582E2A8F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47268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7A5828-131C-42E7-95AC-6995B1DA91BD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"/>
          <p:cNvGrpSpPr/>
          <p:nvPr/>
        </p:nvGrpSpPr>
        <p:grpSpPr>
          <a:xfrm>
            <a:off x="752040" y="744480"/>
            <a:ext cx="10674720" cy="5349960"/>
            <a:chOff x="752040" y="744480"/>
            <a:chExt cx="10674720" cy="5349960"/>
          </a:xfrm>
        </p:grpSpPr>
        <p:sp>
          <p:nvSpPr>
            <p:cNvPr id="43" name="Freeform 6"/>
            <p:cNvSpPr/>
            <p:nvPr/>
          </p:nvSpPr>
          <p:spPr>
            <a:xfrm>
              <a:off x="8151840" y="1685880"/>
              <a:ext cx="3274920" cy="4408560"/>
            </a:xfrm>
            <a:custGeom>
              <a:avLst/>
              <a:gdLst>
                <a:gd name="textAreaLeft" fmla="*/ 0 w 3274920"/>
                <a:gd name="textAreaRight" fmla="*/ 3275280 w 3274920"/>
                <a:gd name="textAreaTop" fmla="*/ 0 h 4408560"/>
                <a:gd name="textAreaBottom" fmla="*/ 4408560 h 4408560"/>
              </a:gdLst>
              <a:ahLst/>
              <a:rect l="textAreaLeft" t="textAreaTop" r="textAreaRight" b="textAreaBottom"/>
              <a:pathLst>
                <a:path w="10000" h="10000">
                  <a:moveTo>
                    <a:pt x="8761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9126"/>
                  </a:lnTo>
                  <a:lnTo>
                    <a:pt x="8761" y="9127"/>
                  </a:lnTo>
                  <a:lnTo>
                    <a:pt x="8761" y="0"/>
                  </a:lnTo>
                  <a:close/>
                </a:path>
              </a:pathLst>
            </a:cu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 flipH="1" flipV="1">
              <a:off x="751320" y="744480"/>
              <a:ext cx="3274920" cy="4408560"/>
            </a:xfrm>
            <a:custGeom>
              <a:avLst/>
              <a:gdLst>
                <a:gd name="textAreaLeft" fmla="*/ -360 w 3274920"/>
                <a:gd name="textAreaRight" fmla="*/ 3274920 w 3274920"/>
                <a:gd name="textAreaTop" fmla="*/ 0 h 4408560"/>
                <a:gd name="textAreaBottom" fmla="*/ 4408560 h 4408560"/>
              </a:gdLst>
              <a:ahLst/>
              <a:rect l="textAreaLeft" t="textAreaTop" r="textAreaRight" b="textAreaBottom"/>
              <a:pathLst>
                <a:path w="10002" h="10000">
                  <a:moveTo>
                    <a:pt x="8763" y="0"/>
                  </a:moveTo>
                  <a:lnTo>
                    <a:pt x="10002" y="0"/>
                  </a:lnTo>
                  <a:lnTo>
                    <a:pt x="10002" y="10000"/>
                  </a:lnTo>
                  <a:lnTo>
                    <a:pt x="2" y="10000"/>
                  </a:lnTo>
                  <a:cubicBezTo>
                    <a:pt x="-2" y="9698"/>
                    <a:pt x="4" y="9427"/>
                    <a:pt x="0" y="9125"/>
                  </a:cubicBezTo>
                  <a:lnTo>
                    <a:pt x="8763" y="9128"/>
                  </a:lnTo>
                  <a:lnTo>
                    <a:pt x="8763" y="0"/>
                  </a:lnTo>
                  <a:close/>
                </a:path>
              </a:pathLst>
            </a:cu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52040" y="6453360"/>
            <a:ext cx="1608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53B161-8A28-4E23-980C-9BEE02FE86B2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8151840" y="1685880"/>
            <a:ext cx="3274920" cy="4408560"/>
          </a:xfrm>
          <a:custGeom>
            <a:avLst/>
            <a:gdLst>
              <a:gd name="textAreaLeft" fmla="*/ 0 w 3274920"/>
              <a:gd name="textAreaRight" fmla="*/ 3275280 w 3274920"/>
              <a:gd name="textAreaTop" fmla="*/ 0 h 4408560"/>
              <a:gd name="textAreaBottom" fmla="*/ 4408920 h 4408560"/>
            </a:gdLst>
            <a:ahLst/>
            <a:rect l="textAreaLeft" t="textAreaTop" r="textAreaRight" b="textAreaBottom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dfe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e3e5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38360" y="6453360"/>
            <a:ext cx="16221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2DAB6E-ECB0-4252-9D59-A681F199BFE9}" type="slidenum"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71B59D-3BF0-4B00-991A-04642B24885D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FA6491-5B32-4271-A2CE-F94D2799CED4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030320" y="402732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5b74"/>
                </a:solidFill>
                <a:latin typeface="Franklin Gothic Book"/>
              </a:rPr>
              <a:t>Δημιουργός: Κούλης Ιωάννης</a:t>
            </a: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5" name="Ορθογώνιο 3"/>
          <p:cNvSpPr/>
          <p:nvPr/>
        </p:nvSpPr>
        <p:spPr>
          <a:xfrm>
            <a:off x="468360" y="890640"/>
            <a:ext cx="1125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ERASMUS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2021-1-EL01-KA220-SCH-0000278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 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« STEAM &amp; Digital Skills : </a:t>
            </a:r>
            <a:r>
              <a:rPr b="0" lang="en-US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Searching for the new Leonardos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Εικόνα 4" descr=""/>
          <p:cNvPicPr/>
          <p:nvPr/>
        </p:nvPicPr>
        <p:blipFill>
          <a:blip r:embed="rId1"/>
          <a:stretch/>
        </p:blipFill>
        <p:spPr>
          <a:xfrm>
            <a:off x="9948960" y="179280"/>
            <a:ext cx="1461960" cy="1422360"/>
          </a:xfrm>
          <a:prstGeom prst="rect">
            <a:avLst/>
          </a:prstGeom>
          <a:ln w="0">
            <a:noFill/>
          </a:ln>
        </p:spPr>
      </p:pic>
      <p:pic>
        <p:nvPicPr>
          <p:cNvPr id="217" name="Εικόνα 5" descr=""/>
          <p:cNvPicPr/>
          <p:nvPr/>
        </p:nvPicPr>
        <p:blipFill>
          <a:blip r:embed="rId2"/>
          <a:stretch/>
        </p:blipFill>
        <p:spPr>
          <a:xfrm>
            <a:off x="1030320" y="1062000"/>
            <a:ext cx="1811160" cy="2710080"/>
          </a:xfrm>
          <a:prstGeom prst="rect">
            <a:avLst/>
          </a:prstGeom>
          <a:ln w="0">
            <a:noFill/>
          </a:ln>
        </p:spPr>
      </p:pic>
      <p:pic>
        <p:nvPicPr>
          <p:cNvPr id="218" name="Εικόνα 6" descr=""/>
          <p:cNvPicPr/>
          <p:nvPr/>
        </p:nvPicPr>
        <p:blipFill>
          <a:blip r:embed="rId3"/>
          <a:stretch/>
        </p:blipFill>
        <p:spPr>
          <a:xfrm>
            <a:off x="8302680" y="4302000"/>
            <a:ext cx="2752560" cy="13924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2841120" y="1789200"/>
            <a:ext cx="7434360" cy="17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ΕΙΔΗ ΤΡΙΓΩΝΩΝ</a:t>
            </a:r>
            <a:br>
              <a:rPr sz="4400"/>
            </a:b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ΩΣ ΠΡΟΣ ΤΙΣ ΠΛΕΥΡΕΣ ΤΟΥΣ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33320" y="338040"/>
            <a:ext cx="749124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ιαχωρισμός σχημάτων</a:t>
            </a:r>
            <a:endParaRPr b="0" lang="en-US" sz="32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952200" y="1425240"/>
            <a:ext cx="788652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22" name="Εικόνα 3" descr=""/>
          <p:cNvPicPr/>
          <p:nvPr/>
        </p:nvPicPr>
        <p:blipFill>
          <a:blip r:embed="rId1"/>
          <a:stretch/>
        </p:blipFill>
        <p:spPr>
          <a:xfrm>
            <a:off x="9713880" y="1908000"/>
            <a:ext cx="1811520" cy="2640240"/>
          </a:xfrm>
          <a:prstGeom prst="rect">
            <a:avLst/>
          </a:prstGeom>
          <a:ln w="0">
            <a:noFill/>
          </a:ln>
        </p:spPr>
      </p:pic>
      <p:pic>
        <p:nvPicPr>
          <p:cNvPr id="223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24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  <p:sp>
        <p:nvSpPr>
          <p:cNvPr id="225" name="Ορθογώνιο 2"/>
          <p:cNvSpPr/>
          <p:nvPr/>
        </p:nvSpPr>
        <p:spPr>
          <a:xfrm rot="1306800">
            <a:off x="1436760" y="2052360"/>
            <a:ext cx="914400" cy="914400"/>
          </a:xfrm>
          <a:prstGeom prst="rect">
            <a:avLst/>
          </a:prstGeom>
          <a:solidFill>
            <a:srgbClr val="000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Ισοσκελές τρίγωνο 3"/>
          <p:cNvSpPr/>
          <p:nvPr/>
        </p:nvSpPr>
        <p:spPr>
          <a:xfrm>
            <a:off x="2643120" y="1824120"/>
            <a:ext cx="782640" cy="1112760"/>
          </a:xfrm>
          <a:prstGeom prst="triangle">
            <a:avLst>
              <a:gd name="adj" fmla="val 50000"/>
            </a:avLst>
          </a:prstGeom>
          <a:solidFill>
            <a:srgbClr val="2683c6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Ορθογώνιο 4"/>
          <p:cNvSpPr/>
          <p:nvPr/>
        </p:nvSpPr>
        <p:spPr>
          <a:xfrm>
            <a:off x="5667480" y="1965240"/>
            <a:ext cx="1419120" cy="889200"/>
          </a:xfrm>
          <a:prstGeom prst="rect">
            <a:avLst/>
          </a:prstGeom>
          <a:solidFill>
            <a:srgbClr val="ffff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Διάγραμμα ροής: Διεργασία 5"/>
          <p:cNvSpPr/>
          <p:nvPr/>
        </p:nvSpPr>
        <p:spPr>
          <a:xfrm>
            <a:off x="7451640" y="2549520"/>
            <a:ext cx="1193760" cy="622440"/>
          </a:xfrm>
          <a:prstGeom prst="flowChartProcess">
            <a:avLst/>
          </a:prstGeom>
          <a:solidFill>
            <a:srgbClr val="ff0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Παραλληλόγραμμο 6"/>
          <p:cNvSpPr/>
          <p:nvPr/>
        </p:nvSpPr>
        <p:spPr>
          <a:xfrm>
            <a:off x="2409840" y="4403880"/>
            <a:ext cx="1189080" cy="820440"/>
          </a:xfrm>
          <a:prstGeom prst="parallelogram">
            <a:avLst>
              <a:gd name="adj" fmla="val 25048"/>
            </a:avLst>
          </a:prstGeom>
          <a:solidFill>
            <a:srgbClr val="1cade4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Τραπέζιο 7"/>
          <p:cNvSpPr/>
          <p:nvPr/>
        </p:nvSpPr>
        <p:spPr>
          <a:xfrm>
            <a:off x="6568920" y="5138640"/>
            <a:ext cx="1320840" cy="822600"/>
          </a:xfrm>
          <a:custGeom>
            <a:avLst/>
            <a:gdLst/>
            <a:ahLst/>
            <a:rect l="l" t="t" r="r" b="b"/>
            <a:pathLst>
              <a:path w="1320714" h="821635">
                <a:moveTo>
                  <a:pt x="0" y="821635"/>
                </a:moveTo>
                <a:lnTo>
                  <a:pt x="205409" y="0"/>
                </a:lnTo>
                <a:lnTo>
                  <a:pt x="1115305" y="0"/>
                </a:lnTo>
                <a:lnTo>
                  <a:pt x="1320714" y="821635"/>
                </a:lnTo>
                <a:lnTo>
                  <a:pt x="0" y="821635"/>
                </a:lnTo>
                <a:close/>
              </a:path>
            </a:pathLst>
          </a:custGeom>
          <a:solidFill>
            <a:srgbClr val="ffc000"/>
          </a:solidFill>
          <a:ln w="34920">
            <a:solidFill>
              <a:srgbClr val="0647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Ορθογώνιο τρίγωνο 8"/>
          <p:cNvSpPr/>
          <p:nvPr/>
        </p:nvSpPr>
        <p:spPr>
          <a:xfrm rot="4737000">
            <a:off x="1775880" y="3456000"/>
            <a:ext cx="741240" cy="1189080"/>
          </a:xfrm>
          <a:prstGeom prst="rtTriangle">
            <a:avLst/>
          </a:prstGeom>
          <a:solidFill>
            <a:srgbClr val="ffc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Ρόμβος 9"/>
          <p:cNvSpPr/>
          <p:nvPr/>
        </p:nvSpPr>
        <p:spPr>
          <a:xfrm>
            <a:off x="4013280" y="4654440"/>
            <a:ext cx="623880" cy="1471680"/>
          </a:xfrm>
          <a:prstGeom prst="diamond">
            <a:avLst/>
          </a:prstGeom>
          <a:solidFill>
            <a:srgbClr val="ff0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Ισοσκελές τρίγωνο 10"/>
          <p:cNvSpPr/>
          <p:nvPr/>
        </p:nvSpPr>
        <p:spPr>
          <a:xfrm>
            <a:off x="2849400" y="2917800"/>
            <a:ext cx="1417680" cy="10065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Ορθογώνιο τρίγωνο 11"/>
          <p:cNvSpPr/>
          <p:nvPr/>
        </p:nvSpPr>
        <p:spPr>
          <a:xfrm>
            <a:off x="7110360" y="3340080"/>
            <a:ext cx="1020960" cy="1008000"/>
          </a:xfrm>
          <a:prstGeom prst="rtTriangle">
            <a:avLst/>
          </a:prstGeom>
          <a:solidFill>
            <a:srgbClr val="2683c6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Ορθογώνιο τρίγωνο 12"/>
          <p:cNvSpPr/>
          <p:nvPr/>
        </p:nvSpPr>
        <p:spPr>
          <a:xfrm rot="3912000">
            <a:off x="4640760" y="2493000"/>
            <a:ext cx="1055880" cy="993600"/>
          </a:xfrm>
          <a:prstGeom prst="rtTriangle">
            <a:avLst/>
          </a:prstGeom>
          <a:solidFill>
            <a:srgbClr val="1cade4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Ισοσκελές τρίγωνο 13"/>
          <p:cNvSpPr/>
          <p:nvPr/>
        </p:nvSpPr>
        <p:spPr>
          <a:xfrm>
            <a:off x="1006560" y="5346720"/>
            <a:ext cx="3020760" cy="914400"/>
          </a:xfrm>
          <a:prstGeom prst="triangle">
            <a:avLst>
              <a:gd name="adj" fmla="val 50000"/>
            </a:avLst>
          </a:prstGeom>
          <a:solidFill>
            <a:srgbClr val="318b71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Ισοσκελές τρίγωνο 14"/>
          <p:cNvSpPr/>
          <p:nvPr/>
        </p:nvSpPr>
        <p:spPr>
          <a:xfrm rot="4444200">
            <a:off x="5068800" y="3681360"/>
            <a:ext cx="2368440" cy="622080"/>
          </a:xfrm>
          <a:prstGeom prst="triangle">
            <a:avLst>
              <a:gd name="adj" fmla="val 50000"/>
            </a:avLst>
          </a:prstGeom>
          <a:solidFill>
            <a:srgbClr val="3e8853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Ορθογώνιο τρίγωνο 15"/>
          <p:cNvSpPr/>
          <p:nvPr/>
        </p:nvSpPr>
        <p:spPr>
          <a:xfrm>
            <a:off x="5491080" y="5207040"/>
            <a:ext cx="325440" cy="636480"/>
          </a:xfrm>
          <a:prstGeom prst="rtTriangle">
            <a:avLst/>
          </a:prstGeom>
          <a:solidFill>
            <a:srgbClr val="1cade4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217080"/>
            <a:ext cx="922500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ιαχωρισμός σχημάτων ως προς των αριθμών των πλευρών τους(τρίγωνα). </a:t>
            </a:r>
            <a:endParaRPr b="0" lang="en-US" sz="32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40" name="Εικόνα 3" descr=""/>
          <p:cNvPicPr/>
          <p:nvPr/>
        </p:nvPicPr>
        <p:blipFill>
          <a:blip r:embed="rId1"/>
          <a:stretch/>
        </p:blipFill>
        <p:spPr>
          <a:xfrm>
            <a:off x="9794880" y="1943280"/>
            <a:ext cx="1811160" cy="2604960"/>
          </a:xfrm>
          <a:prstGeom prst="rect">
            <a:avLst/>
          </a:prstGeom>
          <a:ln w="0">
            <a:noFill/>
          </a:ln>
        </p:spPr>
      </p:pic>
      <p:pic>
        <p:nvPicPr>
          <p:cNvPr id="241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42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416880" y="4930920"/>
            <a:ext cx="2752920" cy="1666800"/>
          </a:xfrm>
          <a:prstGeom prst="rect">
            <a:avLst/>
          </a:prstGeom>
          <a:ln w="0">
            <a:noFill/>
          </a:ln>
        </p:spPr>
      </p:pic>
      <p:sp>
        <p:nvSpPr>
          <p:cNvPr id="243" name="Ισοσκελές τρίγωνο 1"/>
          <p:cNvSpPr/>
          <p:nvPr/>
        </p:nvSpPr>
        <p:spPr>
          <a:xfrm>
            <a:off x="1968480" y="1943280"/>
            <a:ext cx="782640" cy="1112760"/>
          </a:xfrm>
          <a:prstGeom prst="triangle">
            <a:avLst>
              <a:gd name="adj" fmla="val 50000"/>
            </a:avLst>
          </a:prstGeom>
          <a:solidFill>
            <a:srgbClr val="a8ecef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Ορθογώνιο τρίγωνο 2"/>
          <p:cNvSpPr/>
          <p:nvPr/>
        </p:nvSpPr>
        <p:spPr>
          <a:xfrm rot="4737000">
            <a:off x="1735920" y="4695840"/>
            <a:ext cx="741240" cy="1189080"/>
          </a:xfrm>
          <a:prstGeom prst="rtTriangle">
            <a:avLst/>
          </a:prstGeom>
          <a:solidFill>
            <a:srgbClr val="30525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Ισοσκελές τρίγωνο 3"/>
          <p:cNvSpPr/>
          <p:nvPr/>
        </p:nvSpPr>
        <p:spPr>
          <a:xfrm>
            <a:off x="3365640" y="4973760"/>
            <a:ext cx="1417320" cy="1008000"/>
          </a:xfrm>
          <a:prstGeom prst="triangle">
            <a:avLst>
              <a:gd name="adj" fmla="val 50000"/>
            </a:avLst>
          </a:prstGeom>
          <a:solidFill>
            <a:srgbClr val="42ba97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Ορθογώνιο τρίγωνο 4"/>
          <p:cNvSpPr/>
          <p:nvPr/>
        </p:nvSpPr>
        <p:spPr>
          <a:xfrm>
            <a:off x="6885000" y="4973760"/>
            <a:ext cx="1020600" cy="1008000"/>
          </a:xfrm>
          <a:prstGeom prst="rtTriangle">
            <a:avLst/>
          </a:prstGeom>
          <a:solidFill>
            <a:srgbClr val="2683c6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Ορθογώνιο τρίγωνο 5"/>
          <p:cNvSpPr/>
          <p:nvPr/>
        </p:nvSpPr>
        <p:spPr>
          <a:xfrm rot="3912000">
            <a:off x="7089480" y="2276280"/>
            <a:ext cx="1057320" cy="993960"/>
          </a:xfrm>
          <a:prstGeom prst="rtTriangle">
            <a:avLst/>
          </a:prstGeom>
          <a:solidFill>
            <a:srgbClr val="ffff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Ισοσκελές τρίγωνο 6"/>
          <p:cNvSpPr/>
          <p:nvPr/>
        </p:nvSpPr>
        <p:spPr>
          <a:xfrm>
            <a:off x="3830760" y="2085840"/>
            <a:ext cx="2981160" cy="2071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Ισοσκελές τρίγωνο 7"/>
          <p:cNvSpPr/>
          <p:nvPr/>
        </p:nvSpPr>
        <p:spPr>
          <a:xfrm rot="4444200">
            <a:off x="7473600" y="3754440"/>
            <a:ext cx="2367000" cy="62388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6240" y="473040"/>
            <a:ext cx="901224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αρακτηριστικά τριγώνων ως προς τις πλευρές τους</a:t>
            </a:r>
            <a:r>
              <a:rPr b="0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51" name="Εικόνα 3" descr=""/>
          <p:cNvPicPr/>
          <p:nvPr/>
        </p:nvPicPr>
        <p:blipFill>
          <a:blip r:embed="rId1"/>
          <a:stretch/>
        </p:blipFill>
        <p:spPr>
          <a:xfrm>
            <a:off x="9888480" y="1971720"/>
            <a:ext cx="1811520" cy="2552760"/>
          </a:xfrm>
          <a:prstGeom prst="rect">
            <a:avLst/>
          </a:prstGeom>
          <a:ln w="0">
            <a:noFill/>
          </a:ln>
        </p:spPr>
      </p:pic>
      <p:pic>
        <p:nvPicPr>
          <p:cNvPr id="252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53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302760" y="4930920"/>
            <a:ext cx="2752560" cy="1666800"/>
          </a:xfrm>
          <a:prstGeom prst="rect">
            <a:avLst/>
          </a:prstGeom>
          <a:ln w="0">
            <a:noFill/>
          </a:ln>
        </p:spPr>
      </p:pic>
      <p:sp>
        <p:nvSpPr>
          <p:cNvPr id="254" name="TextBox 9"/>
          <p:cNvSpPr/>
          <p:nvPr/>
        </p:nvSpPr>
        <p:spPr>
          <a:xfrm>
            <a:off x="1047600" y="1971720"/>
            <a:ext cx="8255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Σκαληνό                            καμία πλευρά ίσ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Ισοσκελές                         2 πλευρές ίσ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Ισόπλευρο                        3 πλευρές ίσ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Βέλος: Δεξιό 10"/>
          <p:cNvSpPr/>
          <p:nvPr/>
        </p:nvSpPr>
        <p:spPr>
          <a:xfrm>
            <a:off x="3613320" y="2200320"/>
            <a:ext cx="1244520" cy="22536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1cade4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Βέλος: Δεξιό 11"/>
          <p:cNvSpPr/>
          <p:nvPr/>
        </p:nvSpPr>
        <p:spPr>
          <a:xfrm>
            <a:off x="3613320" y="3429000"/>
            <a:ext cx="1244520" cy="22536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f0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Βέλος: Δεξιό 12"/>
          <p:cNvSpPr/>
          <p:nvPr/>
        </p:nvSpPr>
        <p:spPr>
          <a:xfrm>
            <a:off x="3613320" y="4657680"/>
            <a:ext cx="1244520" cy="22536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62a39f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79520" y="812880"/>
            <a:ext cx="629136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πέκταση</a:t>
            </a:r>
            <a:endParaRPr b="0" lang="en-US" sz="32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425240" y="2003040"/>
            <a:ext cx="7335720" cy="38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Franklin Gothic Book"/>
              </a:rPr>
              <a:t>                         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l-G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καμία γωνία ίση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καληνό                   </a:t>
            </a:r>
            <a:r>
              <a:rPr b="0" lang="el-GR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αμβλυγώνιο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ορθογώνιο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l-G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γωνίες ίσες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Ισοσκελές                 </a:t>
            </a:r>
            <a:r>
              <a:rPr b="0" lang="el-GR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αμβλυγώνιο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ορθογώνιο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Ισόπλευρο                  </a:t>
            </a:r>
            <a:r>
              <a:rPr b="0" lang="el-G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 γωνίες ίσες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Ισόπλευρο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60" name="Εικόνα 3" descr=""/>
          <p:cNvPicPr/>
          <p:nvPr/>
        </p:nvPicPr>
        <p:blipFill>
          <a:blip r:embed="rId1"/>
          <a:stretch/>
        </p:blipFill>
        <p:spPr>
          <a:xfrm>
            <a:off x="9713880" y="2003400"/>
            <a:ext cx="1811520" cy="2368440"/>
          </a:xfrm>
          <a:prstGeom prst="rect">
            <a:avLst/>
          </a:prstGeom>
          <a:ln w="0">
            <a:noFill/>
          </a:ln>
        </p:spPr>
      </p:pic>
      <p:pic>
        <p:nvPicPr>
          <p:cNvPr id="261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62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  <p:cxnSp>
        <p:nvCxnSpPr>
          <p:cNvPr id="263" name="Ευθύγραμμο βέλος σύνδεσης 2"/>
          <p:cNvCxnSpPr/>
          <p:nvPr/>
        </p:nvCxnSpPr>
        <p:spPr>
          <a:xfrm flipV="1">
            <a:off x="2416320" y="2196360"/>
            <a:ext cx="969120" cy="437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4" name="Ευθύγραμμο βέλος σύνδεσης 6"/>
          <p:cNvCxnSpPr/>
          <p:nvPr/>
        </p:nvCxnSpPr>
        <p:spPr>
          <a:xfrm>
            <a:off x="2416320" y="2633400"/>
            <a:ext cx="9691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5" name="Ευθύγραμμο βέλος σύνδεσης 9"/>
          <p:cNvCxnSpPr/>
          <p:nvPr/>
        </p:nvCxnSpPr>
        <p:spPr>
          <a:xfrm>
            <a:off x="2416320" y="2633760"/>
            <a:ext cx="969120" cy="437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6" name="Ευθύγραμμο βέλος σύνδεσης 11"/>
          <p:cNvCxnSpPr/>
          <p:nvPr/>
        </p:nvCxnSpPr>
        <p:spPr>
          <a:xfrm flipV="1">
            <a:off x="2568600" y="3935160"/>
            <a:ext cx="969120" cy="437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7" name="Ευθύγραμμο βέλος σύνδεσης 12"/>
          <p:cNvCxnSpPr/>
          <p:nvPr/>
        </p:nvCxnSpPr>
        <p:spPr>
          <a:xfrm>
            <a:off x="2590920" y="4371480"/>
            <a:ext cx="9691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8" name="Ευθύγραμμο βέλος σύνδεσης 13"/>
          <p:cNvCxnSpPr/>
          <p:nvPr/>
        </p:nvCxnSpPr>
        <p:spPr>
          <a:xfrm>
            <a:off x="2644920" y="5687640"/>
            <a:ext cx="970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9" name="Ευθύγραμμο βέλος σύνδεσης 15"/>
          <p:cNvCxnSpPr/>
          <p:nvPr/>
        </p:nvCxnSpPr>
        <p:spPr>
          <a:xfrm>
            <a:off x="2595600" y="4397040"/>
            <a:ext cx="969120" cy="437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320" y="1258560"/>
            <a:ext cx="8248680" cy="723960"/>
          </a:xfrm>
          <a:prstGeom prst="rect">
            <a:avLst/>
          </a:prstGeom>
          <a:noFill/>
          <a:ln w="9360">
            <a:solidFill>
              <a:srgbClr val="1cade4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Παρουσίαση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71" name="Εικόνα 3" descr=""/>
          <p:cNvPicPr/>
          <p:nvPr/>
        </p:nvPicPr>
        <p:blipFill>
          <a:blip r:embed="rId1"/>
          <a:stretch/>
        </p:blipFill>
        <p:spPr>
          <a:xfrm>
            <a:off x="9888480" y="1982880"/>
            <a:ext cx="1811520" cy="2600280"/>
          </a:xfrm>
          <a:prstGeom prst="rect">
            <a:avLst/>
          </a:prstGeom>
          <a:ln w="0">
            <a:noFill/>
          </a:ln>
        </p:spPr>
      </p:pic>
      <p:pic>
        <p:nvPicPr>
          <p:cNvPr id="272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73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264600" y="5049720"/>
            <a:ext cx="2752920" cy="1667160"/>
          </a:xfrm>
          <a:prstGeom prst="rect">
            <a:avLst/>
          </a:prstGeom>
          <a:ln w="0">
            <a:noFill/>
          </a:ln>
        </p:spPr>
      </p:pic>
      <p:grpSp>
        <p:nvGrpSpPr>
          <p:cNvPr id="274" name="TextBox 3"/>
          <p:cNvGrpSpPr/>
          <p:nvPr/>
        </p:nvGrpSpPr>
        <p:grpSpPr>
          <a:xfrm>
            <a:off x="1225440" y="3492360"/>
            <a:ext cx="8180640" cy="927360"/>
            <a:chOff x="1225440" y="3492360"/>
            <a:chExt cx="8180640" cy="927360"/>
          </a:xfrm>
        </p:grpSpPr>
        <p:pic>
          <p:nvPicPr>
            <p:cNvPr id="275" name="TextBox 3" descr=""/>
            <p:cNvPicPr/>
            <p:nvPr/>
          </p:nvPicPr>
          <p:blipFill>
            <a:blip r:embed="rId4"/>
            <a:stretch/>
          </p:blipFill>
          <p:spPr>
            <a:xfrm>
              <a:off x="1225440" y="3492360"/>
              <a:ext cx="8180640" cy="9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1365120" y="3630600"/>
              <a:ext cx="789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Επιβεβαίωση                     ή           αναγνώριση του λάθου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7" name="Ευθύγραμμο βέλος σύνδεσης 6" descr=""/>
          <p:cNvPicPr/>
          <p:nvPr/>
        </p:nvPicPr>
        <p:blipFill>
          <a:blip r:embed="rId5"/>
          <a:stretch/>
        </p:blipFill>
        <p:spPr>
          <a:xfrm>
            <a:off x="3029040" y="1736640"/>
            <a:ext cx="2408040" cy="2158920"/>
          </a:xfrm>
          <a:prstGeom prst="rect">
            <a:avLst/>
          </a:prstGeom>
          <a:ln w="0">
            <a:noFill/>
          </a:ln>
        </p:spPr>
      </p:pic>
      <p:pic>
        <p:nvPicPr>
          <p:cNvPr id="278" name="Ευθύγραμμο βέλος σύνδεσης 8" descr=""/>
          <p:cNvPicPr/>
          <p:nvPr/>
        </p:nvPicPr>
        <p:blipFill>
          <a:blip r:embed="rId6"/>
          <a:stretch/>
        </p:blipFill>
        <p:spPr>
          <a:xfrm>
            <a:off x="5230800" y="1822320"/>
            <a:ext cx="20239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455560" y="677880"/>
            <a:ext cx="58006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πέκταση της δραστηριότητας  </a:t>
            </a:r>
            <a:endParaRPr b="0" lang="en-US" sz="32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80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2154240" y="2179800"/>
            <a:ext cx="6734160" cy="3416040"/>
          </a:xfrm>
          <a:prstGeom prst="rect">
            <a:avLst/>
          </a:prstGeom>
          <a:ln w="0">
            <a:noFill/>
          </a:ln>
        </p:spPr>
      </p:pic>
      <p:pic>
        <p:nvPicPr>
          <p:cNvPr id="281" name="Εικόνα 3" descr=""/>
          <p:cNvPicPr/>
          <p:nvPr/>
        </p:nvPicPr>
        <p:blipFill>
          <a:blip r:embed="rId2"/>
          <a:stretch/>
        </p:blipFill>
        <p:spPr>
          <a:xfrm>
            <a:off x="9888480" y="2179800"/>
            <a:ext cx="1811520" cy="2636640"/>
          </a:xfrm>
          <a:prstGeom prst="rect">
            <a:avLst/>
          </a:prstGeom>
          <a:ln w="0">
            <a:noFill/>
          </a:ln>
        </p:spPr>
      </p:pic>
      <p:pic>
        <p:nvPicPr>
          <p:cNvPr id="282" name="Εικόνα 4" descr=""/>
          <p:cNvPicPr/>
          <p:nvPr/>
        </p:nvPicPr>
        <p:blipFill>
          <a:blip r:embed="rId3"/>
          <a:stretch/>
        </p:blipFill>
        <p:spPr>
          <a:xfrm>
            <a:off x="10063080" y="579600"/>
            <a:ext cx="1462320" cy="1461960"/>
          </a:xfrm>
          <a:prstGeom prst="rect">
            <a:avLst/>
          </a:prstGeom>
          <a:ln w="0">
            <a:noFill/>
          </a:ln>
        </p:spPr>
      </p:pic>
      <p:pic>
        <p:nvPicPr>
          <p:cNvPr id="283" name="Εικόνα 5" descr=""/>
          <p:cNvPicPr/>
          <p:nvPr/>
        </p:nvPicPr>
        <p:blipFill>
          <a:blip r:embed="rId4"/>
          <a:stretch/>
        </p:blipFill>
        <p:spPr>
          <a:xfrm>
            <a:off x="9255240" y="4956120"/>
            <a:ext cx="27525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525760" y="3311640"/>
            <a:ext cx="536256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Σας ευχαριστώ πολύ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85" name="Εικόνα 3" descr=""/>
          <p:cNvPicPr/>
          <p:nvPr/>
        </p:nvPicPr>
        <p:blipFill>
          <a:blip r:embed="rId1"/>
          <a:stretch/>
        </p:blipFill>
        <p:spPr>
          <a:xfrm>
            <a:off x="9713880" y="2308320"/>
            <a:ext cx="1811520" cy="2736720"/>
          </a:xfrm>
          <a:prstGeom prst="rect">
            <a:avLst/>
          </a:prstGeom>
          <a:ln w="0">
            <a:noFill/>
          </a:ln>
        </p:spPr>
      </p:pic>
      <p:pic>
        <p:nvPicPr>
          <p:cNvPr id="286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493640"/>
          </a:xfrm>
          <a:prstGeom prst="rect">
            <a:avLst/>
          </a:prstGeom>
          <a:ln w="0">
            <a:noFill/>
          </a:ln>
        </p:spPr>
      </p:pic>
      <p:pic>
        <p:nvPicPr>
          <p:cNvPr id="287" name="Εικόνα 5" descr=""/>
          <p:cNvPicPr/>
          <p:nvPr/>
        </p:nvPicPr>
        <p:blipFill>
          <a:blip r:embed="rId3"/>
          <a:stretch/>
        </p:blipFill>
        <p:spPr>
          <a:xfrm>
            <a:off x="9242280" y="5191200"/>
            <a:ext cx="2752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14T06:17:29Z</dcterms:created>
  <dc:creator>User01</dc:creator>
  <dc:description/>
  <dc:language>en-US</dc:language>
  <cp:lastModifiedBy>Νικολέτα-Παρασκευή Κούλη</cp:lastModifiedBy>
  <dcterms:modified xsi:type="dcterms:W3CDTF">2023-11-29T23:20:50Z</dcterms:modified>
  <cp:revision>137</cp:revision>
  <dc:subject/>
  <dc:title>Παρουσίαση του PowerPoint</dc:title>
</cp:coreProperties>
</file>